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5078-59E1-421D-8BFC-AFB1D525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E347-3DFE-44D6-8BC6-1AF9E705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FEC0-4E61-4C05-ACF3-DA785279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4820-DC29-48DE-8C83-B92C0802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7AB9-930F-4474-AF05-F9398C0A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D2CB-5EFE-4593-8415-5505223C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EC9F-3F16-48D7-9A61-AD4B00E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5C19-22C9-4910-83E8-123F4157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48EB-93AF-4545-BDEA-DF844228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6788-453C-47E3-B62A-0290BEAB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49A-6FC5-43C4-8D41-BA4F22A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1E9E-45BE-43D6-906E-B56E8CEC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B38F-0E27-4EF0-8E12-6FDDB25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5D86-BF6C-4D78-8046-F1DB23C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F600-D8AA-4A03-83E9-397DBC98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0985-82D0-4A7F-8508-553F4768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2E88-17D8-44D6-B369-4DB401EC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06D7-87FC-48DB-9CAB-E07592E1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503B-0CBF-4E5E-B648-FFE06ADA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2B4A-9A14-4C54-9101-0BB415BB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FE44-B5B5-4157-94EF-9C3BF8E5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E82F-7AA5-46D5-A6F3-CF3CA30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2E5A-C04E-4747-8F01-F92255BA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753A8-A71F-4B83-A5E0-55E6BCAF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EFEA-174B-4B3C-921F-CD4F92AA840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FDC7-786A-49FA-BEA8-9209E6853F1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252360" y="229680"/>
            <a:ext cx="957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 (60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Ще чакаме ли, стражо, ощ? Дерзай, о, пътниче сломен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почти премина тъмна нощ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дойде светлий ден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не плачи, върви напре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звездата ще те води вред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додето стигнеш в светлостт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вой дом през вечностт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-541440" y="545760"/>
            <a:ext cx="1008216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2. Попитах аз бореца сме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и ето що ми каза той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Бори се! Тоз, що ни се е клел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е ни даде покой!“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не плачи, а издърж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борбата, дор' се Той яви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ой ще ни води при Отца –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нас - Негови дец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252360" y="531360"/>
            <a:ext cx="957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3. И слънце, месец и звезд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един глас, кат' един чове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ти казват: „Насърчен бъди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еч иде славний век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О, не плачи, ей, иде Тоз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що се зове Исус Христос!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Когато дойде наший Спас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в небе ще вземе нас!"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8360" y="623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/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20:03:35Z</dcterms:created>
  <dc:creator>123</dc:creator>
  <dc:description/>
  <dc:language>en-US</dc:language>
  <cp:lastModifiedBy>SDA</cp:lastModifiedBy>
  <dcterms:modified xsi:type="dcterms:W3CDTF">2009-10-23T16:07:37Z</dcterms:modified>
  <cp:revision>146</cp:revision>
  <dc:subject/>
  <dc:title>Slide 1</dc:title>
</cp:coreProperties>
</file>